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A883-0101-4E35-980C-A7F11A6D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B37AA-E58E-4D0B-BF2F-3CCD921C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A8E38-DA7B-4960-B66E-16C38719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5D758-D783-494F-B37F-37E2EB5F9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F684-53CB-4545-BCB9-ED4D5F70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A634-219C-4FA1-89D4-E720F0B0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FC68-5AA5-476F-BEF3-C7E14AD2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CD70-1BEB-4EEC-ACB0-CE3B3B7F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0310-5473-4E4E-BBF6-CDC0B452A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84BAF-06C5-4FFD-BF7C-640BF22C1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C4C7B-BEF5-47F5-8C39-0627382E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B36CC-4702-42F7-A091-98D6A1CE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8EC1C-0EA5-4683-B0C8-79A145FA4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170DA-16F4-412A-9E1B-76DFE6E1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7FB2-5C02-4B8F-8527-42E8712D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BE76-F92D-44BE-B659-32545C65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61C0E-E2EC-4379-AACA-5E66C60C2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C170F-50BB-4AA9-9B00-EF998024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1DAFA-6E66-421B-8C3E-A4E6C6CC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900A-BEE3-411A-A217-39E273B3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BB38-AFA9-41D2-927C-B3256A2C9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1707-A442-4C12-8D5C-2FEC3004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9FC07-708D-4627-83D2-ACFF3B1D4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E1DAE-7B5C-4138-B171-56B1E6AC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f6743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96140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4b462e"/>
                </a:gs>
                <a:gs pos="100000">
                  <a:srgbClr val="c2b4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35E94-2616-44A4-BCF4-B79BF57E86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a714c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5d48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746c4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4c462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7070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a09463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7a714c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81785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998e5f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877c4e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a89c68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cebf80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ddcd89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d5c684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c6b87b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796f46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80764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b6a86a"/>
                </a:gs>
                <a:gs pos="100000">
                  <a:srgbClr val="e0ce8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91865a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897f55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afa36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beb176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e5d48e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25b3d"/>
                </a:gs>
                <a:gs pos="100000">
                  <a:srgbClr val="fdeb9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5AF2C-47F1-4633-B2C0-79BCCEC87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AUDI ARABIA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pter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3505320" y="3886200"/>
            <a:ext cx="21906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 ‘ al Kh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ty Quarte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5208480" cy="331632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457200" y="335268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38080" y="35053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ivers or Permanent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5257800"/>
            <a:ext cx="2743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d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ify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iculture, Indu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4"/>
          <a:stretch/>
        </p:blipFill>
        <p:spPr>
          <a:xfrm>
            <a:off x="2286000" y="1523880"/>
            <a:ext cx="664848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Million in Saudi Arab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yadh -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1143000" y="2971800"/>
            <a:ext cx="685800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k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eat Mosq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4191120" y="1219320"/>
            <a:ext cx="4762440" cy="317160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228600" y="304812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5257800" y="4724280"/>
            <a:ext cx="33526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j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46c48"/>
            </a:gs>
            <a:gs pos="100000">
              <a:srgbClr val="fdeb9d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Qu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aww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les for 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32 Mon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ud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" descr=""/>
          <p:cNvPicPr/>
          <p:nvPr/>
        </p:nvPicPr>
        <p:blipFill>
          <a:blip r:embed="rId3"/>
          <a:stretch/>
        </p:blipFill>
        <p:spPr>
          <a:xfrm>
            <a:off x="4952880" y="1447920"/>
            <a:ext cx="36007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24:56Z</dcterms:created>
  <dc:creator>Joe Dirt</dc:creator>
  <dc:description/>
  <dc:language>en-US</dc:language>
  <cp:lastModifiedBy>Joe Dirt</cp:lastModifiedBy>
  <dcterms:modified xsi:type="dcterms:W3CDTF">2008-01-03T17:40:08Z</dcterms:modified>
  <cp:revision>5</cp:revision>
  <dc:subject/>
  <dc:title>SAUDI ARABIA Chapter 17</dc:title>
</cp:coreProperties>
</file>